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332-4FCB-4EB7-8D5D-579072A2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3E0-C516-449E-9611-3A909DC4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898-8747-43FD-A1C9-C57DCACC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428-9470-4C87-854C-8C67366E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4376-867E-46D0-83AE-53D2AB2F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FF88-8BC0-49C7-9C0B-5F3C9442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DBC5-8665-41B8-A276-011504F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5E1A-8265-4E4A-AE11-205A51C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65AF-3B1A-4A7C-BF5E-AC673FD1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7C7D-9AA4-4081-8D1E-20FEE69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BD4-00B8-4F96-8AEE-09E4190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9FA-74D4-44D7-82A7-F7205EA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6218-8684-4B87-B34D-2A4791C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4078-C50B-4604-9B7A-BAEC4A4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3562-E972-4DBD-9C1E-2E6317DF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A253-8C7D-408D-B66D-233B62F0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E257-521E-465F-905B-D5CF9ACE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D4A4A-7906-4839-B434-47E5B4FB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D902-D217-443D-9783-8B3DF528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0A70B-CA02-4E85-8AE8-9A67700F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74BA9-2125-4250-A0E2-1EDD38B9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C5098-2DD0-479C-AD3B-60C06201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CE4-3B17-49CC-9541-DCE2CD8A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B30C9-FEBE-496D-A6A4-E9A5B661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7AD17-ED2E-441F-93F3-091AF9C8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3867C-EE17-48D1-8939-D8A5370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E1D7D-34BE-4B44-91A4-A8776A7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2F51A-7CBB-47DB-A777-ED200006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19D7D-C05B-4F95-94F4-680F8E77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89065-A4CD-4E13-9087-19F69D99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6AC-19C2-45AC-97D0-D13650D1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116-A266-427D-BC4F-BE30E7EE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B32-7B12-4952-8E05-0756464E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B16-A84F-4D04-88AE-44BA669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A94-DBF4-42FA-9D09-06D17626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8CF-F481-4076-981D-42F1470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B32F-8D1E-44C8-B047-690022733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54E8-658C-474E-BE35-AC04399759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73BE-C4B1-49C2-A33D-9BC057FDCC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333360"/>
            <a:ext cx="8051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rbeiten bringt Brot - Faulenzen Hungersno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in Erfolg ohne Mühe und Arbei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uf dem Ofen sitzend wird man nicht General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r den Fuchs fangen will, muss mit den Hühnern aufstehe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-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 u="sng">
                <a:solidFill>
                  <a:srgbClr val="000000"/>
                </a:solidFill>
                <a:uFillTx/>
                <a:latin typeface="Times New Roman"/>
              </a:rPr>
              <a:t>Rechtsgrundlagen für Schüler-Jobs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Laut Gesetz zum Schutze der arbeitenden Jugend dürfen Kinder unter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14 Jahr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gar nicht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arbei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Jugendliche, die mindestens 15 aber noch nicht 18 Jahre alt sind, können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vier Wochen pro Jahr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in den Ferien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tägliche Arbeitszeit darf acht Stunden nicht überschreiten (nicht mehr als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40 Stunden in der Woch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30 Minuten Paus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stehen den Jungendlichen zu, wenn sie mindestens viereinhalb bis sechs Stunden am Tag arbeiten und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60 Minu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, wenn sie mehr als sechs Stunden am Tag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523880" y="907920"/>
          <a:ext cx="7008480" cy="4993920"/>
        </p:xfrm>
        <a:graphic>
          <a:graphicData uri="http://schemas.openxmlformats.org/drawingml/2006/table">
            <a:tbl>
              <a:tblPr/>
              <a:tblGrid>
                <a:gridCol w="1931040"/>
                <a:gridCol w="2741040"/>
                <a:gridCol w="2336400"/>
              </a:tblGrid>
              <a:tr h="16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042920" y="907920"/>
          <a:ext cx="7635960" cy="499428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461160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Wochen pro Jahr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inuten oder 60 Minuten Pause am Tag ha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r als 40 Stunden pro Woche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4360" y="620640"/>
            <a:ext cx="76327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1.Ich möchte in den Ferien ………… arbeiten (jobb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2.Ich habe  im Netz eine Anzeige gefunden. Man sucht …………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3.Die Arbeit …….. mir viel Spa</a:t>
            </a:r>
            <a:r>
              <a:rPr b="1" lang="el-GR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4.Ich habe einmal………….. ausgetr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5. Ich w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ürde gern Kontakte ……. fi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 ich einen Job in den Ferien annehmen?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rgumente pro und con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24000" y="105264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4360" y="1413000"/>
          <a:ext cx="7772400" cy="2811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785880" y="1000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Ferienjob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pic>
        <p:nvPicPr>
          <p:cNvPr id="125" name="Picture 4" descr="21_fr_ferienjob"/>
          <p:cNvPicPr/>
          <p:nvPr/>
        </p:nvPicPr>
        <p:blipFill>
          <a:blip r:embed="rId1"/>
          <a:stretch/>
        </p:blipFill>
        <p:spPr>
          <a:xfrm>
            <a:off x="3049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erienjob"/>
          <p:cNvPicPr/>
          <p:nvPr/>
        </p:nvPicPr>
        <p:blipFill>
          <a:blip r:embed="rId2"/>
          <a:stretch/>
        </p:blipFill>
        <p:spPr>
          <a:xfrm>
            <a:off x="5410080" y="3962520"/>
            <a:ext cx="323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Arbeit bedeutet atmen für mich;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wenn ich nicht arbeiten kann,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kann ich nicht atmen!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  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P</a:t>
            </a: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Picass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atmen -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b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457200"/>
            <a:ext cx="7467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Ferienjob bedeutet einen Job in den Ferie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Aber die Jugendlichen arbeiten nicht nur in den Ferien, sondern auch während des Lernens oder Studiums. Sie machen das gewöhnlich nach den Stunden in den Freizeit oder am Wochenend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zeitungsjunge"/>
          <p:cNvPicPr/>
          <p:nvPr/>
        </p:nvPicPr>
        <p:blipFill>
          <a:blip r:embed="rId1"/>
          <a:stretch/>
        </p:blipFill>
        <p:spPr>
          <a:xfrm>
            <a:off x="5943600" y="4343400"/>
            <a:ext cx="28274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5080" y="126828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en Eltern zu hel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aufzubess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zu verdi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Spaß zu be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Ess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Klamott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177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sest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hr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sen und Geträ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m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657600" y="2286000"/>
            <a:ext cx="1676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 u="sng">
                <a:solidFill>
                  <a:srgbClr val="0000ff"/>
                </a:solidFill>
                <a:uFillTx/>
                <a:latin typeface="Times New Roman"/>
              </a:rPr>
              <a:t>JOB</a:t>
            </a:r>
            <a:r>
              <a:rPr b="1" lang="en-US" sz="33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838080" y="1447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äu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3520" y="27432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124080" y="685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1280" y="41497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u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30072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isebegl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705720" y="175248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iefträ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705720" y="30481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umpflege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 flipH="1">
            <a:off x="2124000" y="3429000"/>
            <a:ext cx="1609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26668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457200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5257800" y="3429000"/>
            <a:ext cx="16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5410080" y="2133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 flipH="1" flipV="1">
            <a:off x="2971440" y="1905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410080" y="30481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0" descr="neben_oder_ferienjob_annehm"/>
          <p:cNvPicPr/>
          <p:nvPr/>
        </p:nvPicPr>
        <p:blipFill>
          <a:blip r:embed="rId1"/>
          <a:stretch/>
        </p:blipFill>
        <p:spPr>
          <a:xfrm>
            <a:off x="5791320" y="152280"/>
            <a:ext cx="335268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70836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s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5:43:58Z</dcterms:created>
  <dc:creator>Ребенко Н. А.</dc:creator>
  <dc:description/>
  <dc:language>en-US</dc:language>
  <cp:lastModifiedBy>ДСК</cp:lastModifiedBy>
  <dcterms:modified xsi:type="dcterms:W3CDTF">2014-02-12T19:56:47Z</dcterms:modified>
  <cp:revision>24</cp:revision>
  <dc:subject/>
  <dc:title>Презентация PowerPoint</dc:title>
</cp:coreProperties>
</file>